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EFF2B-A6A0-4654-B266-D63FA5630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1C772-6598-4714-B07B-067A57C5F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130B3-41E0-4A1F-B5A1-23A2D7E44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4D101-A447-440E-A9C7-C2E35632D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DE417-E354-4327-84EE-B7FD8D783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64541-90FB-472D-A5E0-E1A242540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8801E-6441-469A-B232-0749D4DBB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6C288-D9C8-4199-9D94-3986F4F35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572E-1B10-46C8-B79E-91E8B9F8D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3D7B-FDB2-4526-A6C4-CEB8D0329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FACD9-B8F9-4B31-808F-6B6A570A8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AB982-AD23-4B70-A0AD-932D911A9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90BF-9BB5-4448-BE5E-B28B49E26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You Taste??????</a:t>
            </a:r>
            <a:endParaRPr b="0" lang="en-US" sz="4400" spc="-1" strike="noStrike">
              <a:solidFill>
                <a:srgbClr val="000000"/>
              </a:solidFill>
              <a:latin typeface="Arial"/>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 Cited</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MONHEAD." </a:t>
            </a:r>
            <a:r>
              <a:rPr b="0" i="1" lang="en-US" sz="2400" spc="-1" strike="noStrike">
                <a:solidFill>
                  <a:srgbClr val="000000"/>
                </a:solidFill>
                <a:latin typeface="Times New Roman"/>
              </a:rPr>
              <a:t>Lemonhead History</a:t>
            </a:r>
            <a:r>
              <a:rPr b="0" lang="en-US" sz="2400" spc="-1" strike="noStrike">
                <a:solidFill>
                  <a:srgbClr val="000000"/>
                </a:solidFill>
                <a:latin typeface="Times New Roman"/>
              </a:rPr>
              <a:t>. Ferrara Pan Candy Company, Web. 2 Feb. 2010. http://www.ferrarapan.com/html/lh_hist.html .</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ily, Susan. "The History of Vinegar." </a:t>
            </a:r>
            <a:r>
              <a:rPr b="0" i="1" lang="en-US" sz="2400" spc="-1" strike="noStrike">
                <a:solidFill>
                  <a:srgbClr val="000000"/>
                </a:solidFill>
                <a:latin typeface="Times New Roman"/>
              </a:rPr>
              <a:t>Food History</a:t>
            </a:r>
            <a:r>
              <a:rPr b="0" lang="en-US" sz="2400" spc="-1" strike="noStrike">
                <a:solidFill>
                  <a:srgbClr val="000000"/>
                </a:solidFill>
                <a:latin typeface="Times New Roman"/>
              </a:rPr>
              <a:t>. Susan Daily, Web. 2 Feb. 2010. http://www.kitchenproject.com/history/Vinegar/index.htm.</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ar." </a:t>
            </a:r>
            <a:r>
              <a:rPr b="0" i="1" lang="en-US" sz="2400" spc="-1" strike="noStrike">
                <a:solidFill>
                  <a:srgbClr val="000000"/>
                </a:solidFill>
                <a:latin typeface="Times New Roman"/>
              </a:rPr>
              <a:t>Wikipedia</a:t>
            </a:r>
            <a:r>
              <a:rPr b="0" lang="en-US" sz="2400" spc="-1" strike="noStrike">
                <a:solidFill>
                  <a:srgbClr val="000000"/>
                </a:solidFill>
                <a:latin typeface="Times New Roman"/>
              </a:rPr>
              <a:t>. Web. 2 Feb. 2010. http://en.wikipedia.org/wiki/Sugar.</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Salt." </a:t>
            </a:r>
            <a:r>
              <a:rPr b="0" i="1" lang="en-US" sz="2400" spc="-1" strike="noStrike">
                <a:solidFill>
                  <a:srgbClr val="000000"/>
                </a:solidFill>
                <a:latin typeface="Times New Roman"/>
              </a:rPr>
              <a:t>Wikipedia</a:t>
            </a:r>
            <a:r>
              <a:rPr b="0" lang="en-US" sz="2400" spc="-1" strike="noStrike">
                <a:solidFill>
                  <a:srgbClr val="000000"/>
                </a:solidFill>
                <a:latin typeface="Times New Roman"/>
              </a:rPr>
              <a:t>. Web. 2 Feb. 2010. http://en.wikipedia.org/wiki/History_of_salt.</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te Bud." </a:t>
            </a:r>
            <a:r>
              <a:rPr b="0" i="1" lang="en-US" sz="2400" spc="-1" strike="noStrike">
                <a:solidFill>
                  <a:srgbClr val="000000"/>
                </a:solidFill>
                <a:latin typeface="Times New Roman"/>
              </a:rPr>
              <a:t>Wikipedia</a:t>
            </a:r>
            <a:r>
              <a:rPr b="0" lang="en-US" sz="2400" spc="-1" strike="noStrike">
                <a:solidFill>
                  <a:srgbClr val="000000"/>
                </a:solidFill>
                <a:latin typeface="Times New Roman"/>
              </a:rPr>
              <a:t>. Web. 2 Feb. 2010. &lt;http://en.wikipedia.org/wiki/Taste_bud.</a:t>
            </a:r>
            <a:endParaRPr b="0" lang="en-US" sz="24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es the number of taste buds you have make a difference in if you can distinguish vinegar, salt, sugar, sour</a:t>
            </a:r>
            <a:endParaRPr b="0" lang="en-US" sz="32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chose this project because I have been curious about the human tongue and especially the taste buds, and why different people like different stuff</a:t>
            </a:r>
            <a:endParaRPr b="0" lang="en-US" sz="32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predict that the more taste buds you have the better you distinguish them or tell them apart because the more you have overall the more you have in each section.</a:t>
            </a:r>
            <a:endParaRPr b="0" lang="en-US" sz="32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dependent Variable:</a:t>
            </a:r>
            <a:r>
              <a:rPr b="0" lang="en-US" sz="3200" spc="-1" strike="noStrike">
                <a:solidFill>
                  <a:srgbClr val="000000"/>
                </a:solidFill>
                <a:latin typeface="Times New Roman"/>
              </a:rPr>
              <a:t> The Number of Taste Bud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pendent Variable:</a:t>
            </a:r>
            <a:r>
              <a:rPr b="0" lang="en-US" sz="3200" spc="-1" strike="noStrike">
                <a:solidFill>
                  <a:srgbClr val="000000"/>
                </a:solidFill>
                <a:latin typeface="Times New Roman"/>
              </a:rPr>
              <a:t> Whether or not it matter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ntrolled Variable:</a:t>
            </a:r>
            <a:r>
              <a:rPr b="0" lang="en-US" sz="3200" spc="-1" strike="noStrike">
                <a:solidFill>
                  <a:srgbClr val="000000"/>
                </a:solidFill>
                <a:latin typeface="Times New Roman"/>
              </a:rPr>
              <a:t> Everything is constant and tested the same</a:t>
            </a:r>
            <a:endParaRPr b="0" lang="en-US" sz="3200" spc="-1" strike="noStrike">
              <a:solidFill>
                <a:srgbClr val="000000"/>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l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mon Hea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neg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Color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ton Swab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ps of Note Car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8th Grader</a:t>
            </a:r>
            <a:endParaRPr b="0" lang="en-US" sz="3200" spc="-1" strike="noStrike">
              <a:solidFill>
                <a:srgbClr val="000000"/>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e</a:t>
            </a:r>
            <a:endParaRPr b="0" lang="en-US" sz="4400" spc="-1" strike="noStrike">
              <a:solidFill>
                <a:srgbClr val="000000"/>
              </a:solidFill>
              <a:latin typeface="Arial"/>
            </a:endParaRPr>
          </a:p>
        </p:txBody>
      </p:sp>
      <p:sp>
        <p:nvSpPr>
          <p:cNvPr id="53"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Gather all Material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Get the Vinegar, Salt, Sugar, and Lemon Hea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Gather up the peopl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Test Number of taste buds to see how many they hav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How to test how many taste bu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Using a cotton swab put some food coloring on to the tip of your tongu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Place a reinforcement ring on your tongu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Count the pink dots within the reinforcement ring. This may be easier with a magnifying glas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ink dots are your fungiform papillae. They don't take up the food coloring. These papillae are the tiny bumps on your tongue that house your taste buds. The more papillae you have, the more taste buds you have and the more sensitive to taste you are. On average, non-tasters have fewer than 15 papillae in that area, while super tasters have over 30.</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Repeat this process for the other peopl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Video tape this proces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Observe the result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Test for the Vinegar, Salt, Sugar, and Lemon Hea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Observe Result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Judge Hypothesis </a:t>
            </a:r>
            <a:endParaRPr b="0" lang="en-US" sz="18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33840"/>
        </p:xfrm>
        <a:graphic>
          <a:graphicData uri="http://schemas.openxmlformats.org/drawingml/2006/table">
            <a:tbl>
              <a:tblPr/>
              <a:tblGrid>
                <a:gridCol w="1690560"/>
                <a:gridCol w="1231920"/>
                <a:gridCol w="1230480"/>
                <a:gridCol w="1230120"/>
                <a:gridCol w="1525680"/>
                <a:gridCol w="1320840"/>
              </a:tblGrid>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ste Bud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ucas Belo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chel Cart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Ba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inley Farn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Dro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yatt Johns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owdered 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rogan Jon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rn Syru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ar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bi Wilifo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anil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Zach Brashe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Drop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sh Farn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Jui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chael Hendrick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nner Stalling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ey Wrenc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ey Bagb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ae Jon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ustin Mye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idan Crosb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ed Dierks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Cand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yne Tomm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mon Ba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y Hypothesis was incorrect except for on a few people on all but three people because those three didn’t do a very good job guessing on the Vinegar and the Lemon Heads because sweet and salty are the first two things you taste.</a:t>
            </a:r>
            <a:endParaRPr b="0" lang="en-US" sz="32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6:20:27Z</dcterms:created>
  <dc:creator>USD376</dc:creator>
  <dc:description/>
  <dc:language>en-US</dc:language>
  <cp:lastModifiedBy>USD376</cp:lastModifiedBy>
  <dcterms:modified xsi:type="dcterms:W3CDTF">2010-03-02T16:25:19Z</dcterms:modified>
  <cp:revision>6</cp:revision>
  <dc:subject/>
  <dc:title>Taste Buds</dc:title>
</cp:coreProperties>
</file>